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86B-E9B9-4387-AFB6-EA1F035A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1FE-6AD0-4BB5-B22F-352E821B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D3C-9906-43B9-9655-47CBED14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6F1-BF0F-4CBE-A4D8-F4E718DC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679-6384-45F2-92CE-31447B2A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141-5BBA-4719-B9E8-E857D87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6C4-BF7F-44E2-9BC4-641E0B55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F3A-1EA6-4AAC-A5E7-FA08AB19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A65-5A37-4676-A259-AAD64707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C88-6886-4AED-B874-9CEE39DE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338-5384-45D2-AD8B-6ED9C9ED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277-59E3-462D-834B-1C56EDBC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5C8A-9711-4E30-A8EE-C69DB3298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lithium 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Zn(Cl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K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tassium oxal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 dich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r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C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lcium carbo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iron(II)chlor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FeCl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Li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tin(IV)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ilver phosph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g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ClO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 hypochlor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cyan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CN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(N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mmonium sulf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luminum hydr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l(OH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K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tassium sulf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arbon tetrachlor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Cl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H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 hydrogen sulf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lead(IV)ch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b(Cr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(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 sulf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balt(II)nitr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ickel(II)brom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i(Br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g(C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agnesium acet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arium nitri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Ba(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743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dinitrogen penta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ammonia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NaHC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odium hydrogen carbo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pper(I)hydrogen phosph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u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P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g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ercury(II)sulf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hromium(II)</a:t>
            </a:r>
            <a:br>
              <a:rPr sz="6600"/>
            </a:b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dihydrogen phosph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r(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b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(A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diphosphorous penta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lead(II)arse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sulf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hydrogen perox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agnesium iod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MgI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UF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uranium(VI)fluor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xenon tetrafluorid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u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XeF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Sn(S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tin(IV)sulf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potassium permangan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KMnO</a:t>
            </a:r>
            <a:r>
              <a:rPr b="1" lang="en-US" sz="6600" spc="-1" strike="noStrike" baseline="-25000">
                <a:solidFill>
                  <a:srgbClr val="dddddd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copper(II)sulf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ddddd"/>
                </a:solidFill>
                <a:latin typeface="Arial"/>
              </a:rPr>
              <a:t>zinc chlorat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3:57:07Z</dcterms:created>
  <dc:creator>Greg Wheeler</dc:creator>
  <dc:description/>
  <dc:language>en-US</dc:language>
  <cp:lastModifiedBy>Megan Gil</cp:lastModifiedBy>
  <dcterms:modified xsi:type="dcterms:W3CDTF">2008-11-23T23:00:04Z</dcterms:modified>
  <cp:revision>4</cp:revision>
  <dc:subject/>
  <dc:title>lithium oxide</dc:title>
</cp:coreProperties>
</file>